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EF0D-A7D3-4ECF-9A7C-15D58D0FDD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37CD-45D5-4439-83ED-DC69DC4F07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1474-AC44-4F7E-9343-8E4D1FBF8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8859-12AC-43F3-AD9B-BC65387B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EF8-5EC2-4230-BD9C-E8657BE2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B6EC-B9A2-4ED0-9FED-6BB098A7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CC5C-3ED6-4538-BAF8-8413CEBC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1832-433D-4F3A-B282-16AE7F88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1E75-D289-4C32-99CD-B1C6B54B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C862-494D-4280-BB9E-386391A6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70ED-7E2D-45D1-BE17-3B3DC82A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F9B6-DDDC-49CF-B7A6-046C0C4C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4DF0-CC62-4522-999B-3855DEB6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24AB-9FBC-4307-9229-CF997299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5B9F-D23C-40CA-8337-C3DCF09A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38CA-2EE0-4E9F-8C72-DE3790E2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1A09-9DF4-4FD0-B372-F00FF39C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18C5-A58B-40DD-9D8A-6C4542D3E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C24DF-752B-4F0D-9650-098B76A7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9AC72-551C-4B53-8EF7-53B448FE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53357-2BA1-45CE-BEAC-CF24EB45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B5919-1A9C-42A8-8DFD-7CD6E371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D64F3-8845-4DC2-BB36-078F220D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5750B-8D44-4C3E-A022-2DE70EAB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B94-4940-4C94-A2FD-9510E1EE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DA7EF-4EB1-4B92-BAC2-3E3CDAFFC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5F49A-C92C-4BE7-BD00-C5485773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A834-CB8B-4E8B-869C-4B5ECB77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AA63F-CF77-406C-8BF5-F928C499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5E457-1613-4231-9899-87EF825C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B876E-7D5F-4299-80C7-103A5068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6DBC6-AE1F-4AF0-8CCF-3BC745DDF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AA58B-3DB7-402C-B692-9B5D9B8B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B197D-34BD-4237-A50D-BCBB284E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7E3FC-D541-4311-AF66-CCA4877E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4F9-62D7-48DA-AAE1-3565F33E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EE93C-8420-4F61-BA2E-BD353F65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633BF-E04A-4B91-8F1D-CD39EC78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C5AB9-EA5B-4B01-89AF-3BCC29ED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0040F-362A-4C91-8E66-4D88C4F3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674EB-BB68-402B-AB43-2B406163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13BE4-8E6B-4062-AC93-B242472E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9A309-064B-4D7C-9A51-2804C6866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B45C8-266B-45AE-90D8-38AFEB73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CBB3C-EFCB-42B6-A186-4B38FEE82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FDCBB-6F9B-4599-AE70-DEC80DDF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FA26-7F81-47FF-9924-0AD3F62F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9EE661-E78D-42A8-8F86-5AB24895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0CF70-1667-4ED6-9A47-7B95841C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07947-4DEA-450A-A318-B614EA4A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A1BBE-2B67-48CA-9218-E75D3266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2EDAE-6E0D-43EE-8C67-D144C845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3B548-C337-4F4A-82EC-811DEFE0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DBF31-952A-46D1-8049-70BAAB54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D855D-3DB4-4048-A37B-D633EC4B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83DA5-FE83-43D2-9250-C4D52B68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32300-9D7D-46E6-94A4-FBCA6573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4646-BD50-4BCD-889D-B3649396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B348B-22DB-460C-832E-D1092A58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08932-F2EC-47BD-AC15-DB1753E2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01BC1-D772-4C18-853C-96CF3532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E6AA2-B24A-4AA2-AD3E-96EF8D2F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3C2EA-E0B9-4AFD-B749-11498ADE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57C44-90EE-4DA0-9190-A4A1FCEA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B0C33-2E8D-4120-8885-94E03AEC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F6690-1C43-4C61-93CF-59E72541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2C1BB-D0FB-4C53-829A-C494F8432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138E8-2C60-4EEB-9B7D-8359F29C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1674-D9C2-4B7D-BCCC-354E343F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2FF21-678E-4691-8EBD-6A1605A41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01F22-DA7F-436A-9855-A7E0A4C4E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E9710-B30A-49D9-A806-740CAC00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419D8-234B-4E77-9135-753A12F9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3681B-A0B2-42FF-BBF1-14CE6F9E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6A948-B4D2-40CD-82F8-56C28871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D84B9-CD0B-4D56-95B0-24682C73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90E73-7331-4CE0-AC6C-08D06208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AF2CD-79ED-4E99-B770-C9B8858A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8B69B-4D30-4B06-8464-B36D54D2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78B-CBB2-45EA-8901-0A6FF6C1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2BC4C-9E28-40FD-B07E-5F570B37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B6B6F-C3B9-4F17-B3BE-57FD5BD2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7EE0F-60D7-46F1-B920-9C40BE16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84D34-0762-417C-8A2D-30EF4215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68242-1690-45EE-A9AC-F44DBE20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61FEF-7350-46A1-AEB2-D722127AC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C3974-97D4-406D-8EBF-9E2EE543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C28D1-AAF8-4122-AEC6-C8498127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4F308-E884-4C8D-BF6D-286C6067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1AFF5-99D9-40F6-9058-5489283D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4546-630F-4444-8CC8-3B1FAE83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ECA1E-1DC1-40F1-BDDF-5A374275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998E4-2336-4C83-ACE8-97F3A053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52FC7-8902-421D-A0FA-CB3FF7E5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43024-FFB2-41E0-8D05-3478410D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99B2C-83F9-4EBF-968F-68797508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AFC78-415F-488E-9BD8-538E8C99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F5408-363F-438E-B654-0A2A039F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A261-23A2-4990-9EC0-ECC75343EBB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19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C673-880E-46EF-BE24-ADB47BBDDAAC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5206-BE13-4EA6-B5B7-7051030F607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D613-B233-40A8-A0DD-41F3E244595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464D-AEFF-4F44-94AB-D6B742B6650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A91B-C85E-45E3-9586-4ED1D49BCEC0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627C-38B5-4954-ABDA-0F2CA7E749C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8" name="Right Triangle 15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Straight Connector 16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1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03DA-499C-400F-BEE1-2B065193993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689040" y="3889440"/>
            <a:ext cx="8076960" cy="15732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9765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2133720" y="2755800"/>
            <a:ext cx="487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2  Titr"/>
              </a:rPr>
              <a:t>عنوان مقال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در صفحات بعد نيازی به لوگو، آرم دانشگاه و عنوان همايش نميباش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زمان ارائه پاورپوينت حداکثر 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10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 دقيقه است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سعی شود تعداد اسلايدها بيش از 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15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 اسلايد نباش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هر کدام از نويسندگان مقاله مجاز به ارائه مقاله می باشن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20:02:19Z</dcterms:created>
  <dc:creator>sam system</dc:creator>
  <dc:description/>
  <dc:language>en-US</dc:language>
  <cp:lastModifiedBy>User</cp:lastModifiedBy>
  <dcterms:modified xsi:type="dcterms:W3CDTF">2015-12-15T10:14:55Z</dcterms:modified>
  <cp:revision>32</cp:revision>
  <dc:subject/>
  <dc:title>علي شير افروس، استاديار گروه مهندسي آب، دانشگاه آزاد اسلامي واحد دزفول</dc:title>
</cp:coreProperties>
</file>