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21243925" cy="30243463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2204640" y="766800"/>
            <a:ext cx="269388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3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7185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02228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B243-D820-473A-A532-93640E4F64FD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264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30C61-9E9E-40A7-83DA-44CAC40E2179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205000" y="766800"/>
            <a:ext cx="2693880" cy="383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2182-485F-41CF-AA28-CCFED0D42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5F8-514F-4A4B-8D95-2B9E1EFE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2EF1-DCD3-45EF-876D-D18BD655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351-33C6-4F01-9EE8-7639A21B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538F-FC7E-45CA-84D1-43FD4E686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A75BA-996B-4013-8F75-20D4BB1F2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0F54-37AC-477B-8ECC-799F2C1E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2018-E6EB-4BB4-87E1-7104A69A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6430-34F2-48D5-95EE-42940AD2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B521-5549-40B0-B905-843E1A60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8ED9-0D68-4492-B22B-342E0560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983-6EA7-4B41-8DDB-61DB4C94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04EC8-C757-4BD2-99B1-F34C7197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6190-6E09-4FDC-ABF5-568EBF51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93A1-0E3D-4A03-898A-5E4496AF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0710F-7CE6-42E1-B9C1-A492E343B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F4FF-BFDB-4F91-AB51-1FE2A1E2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F0AAD-64AC-4C80-9852-840966BB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5FD5D-B85E-454D-9F8D-C379E954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5325E-9D16-4D53-A07E-0123DF17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1C756-A571-43C6-9303-8367688B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0B654-C831-43EB-A7C0-935686B4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32D0-3708-44A1-8E5A-B20ABF2B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8171F-F82F-4D75-A1D2-474968366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BF570-B9A2-483A-B2F0-FB81D9A2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255DD-7575-4C44-87E1-28732FB1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6AFAA-905A-45D5-9D63-E1B42B36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167C9-A25C-4FE4-9495-CC8A7A82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DBC37-B7C6-46E5-B581-460BCF4B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7C54F-E5C8-4FB5-9DD1-476549DC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F4B47-B81F-420A-A569-3E6D5065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12B57-995C-4434-9BD8-C757212F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F68F5-F6EE-422A-AF4C-479A02EC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FCF-88ED-4AED-8877-A6A69F035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0F15F-BD1E-4D00-9A82-9491F2FF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15145-43D0-407C-89B7-3CD9D2E4E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1CC1E-2914-468C-8869-AFC31A76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204BA-79A8-4484-892A-326B9D1D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3200F-36DA-420F-9005-27D986CB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7A2A9-02CF-4D50-822B-4B947AF9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86746-E430-479D-B4B7-49ABEA59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85B27-4547-4DCF-9272-CAC3D4688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F0A6A-8308-49D4-AB26-39DEF4F0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BAC8-09C2-45FB-80EC-84BA35C3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4966-4438-4768-B9EA-3DA4F9DA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2C84-82D7-4854-89D4-5506540F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472F-0D34-4CF7-9D20-3E30CD43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8AD2-D4B9-4E10-9F82-EC1788810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051D-647D-4E11-BBB0-E08CF0FD6BC9}" type="slidenum"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AF12-73D5-45DE-9080-D1A8E0F3532F}" type="slidenum"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330D-BB68-4AD7-B294-2EFCDD25A6F8}" type="slidenum"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7354800" y="4885200"/>
            <a:ext cx="12214440" cy="18146880"/>
          </a:xfrm>
          <a:custGeom>
            <a:avLst/>
            <a:gdLst/>
            <a:ahLst/>
            <a:rect l="l" t="t" r="r" b="b"/>
            <a:pathLst>
              <a:path w="12214225" h="18146713">
                <a:moveTo>
                  <a:pt x="0" y="0"/>
                </a:moveTo>
                <a:lnTo>
                  <a:pt x="11768894" y="0"/>
                </a:lnTo>
                <a:lnTo>
                  <a:pt x="12214225" y="445331"/>
                </a:lnTo>
                <a:lnTo>
                  <a:pt x="12214225" y="18146713"/>
                </a:lnTo>
                <a:lnTo>
                  <a:pt x="0" y="181467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ctr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18594360" y="23635080"/>
            <a:ext cx="360360" cy="68580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4120" rIns="294120" tIns="75240" bIns="75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21960" y="25650720"/>
            <a:ext cx="21286800" cy="4592880"/>
          </a:xfrm>
          <a:custGeom>
            <a:avLst/>
            <a:gdLst>
              <a:gd name="textAreaLeft" fmla="*/ 0 w 21286800"/>
              <a:gd name="textAreaRight" fmla="*/ 21287160 w 21286800"/>
              <a:gd name="textAreaTop" fmla="*/ 360 h 4592880"/>
              <a:gd name="textAreaBottom" fmla="*/ 4593600 h 45928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10179000" y="27428040"/>
            <a:ext cx="11063160" cy="2814840"/>
          </a:xfrm>
          <a:custGeom>
            <a:avLst/>
            <a:gdLst>
              <a:gd name="textAreaLeft" fmla="*/ 0 w 11063160"/>
              <a:gd name="textAreaRight" fmla="*/ 11063520 w 11063160"/>
              <a:gd name="textAreaTop" fmla="*/ -360 h 2814840"/>
              <a:gd name="textAreaBottom" fmla="*/ 2814840 h 28148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18763920" y="28030320"/>
            <a:ext cx="141588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2A58-329F-4D4C-9790-0659B377A5EE}" type="slidenum"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34"/>
          <p:cNvGrpSpPr/>
          <p:nvPr/>
        </p:nvGrpSpPr>
        <p:grpSpPr>
          <a:xfrm>
            <a:off x="264960" y="4680000"/>
            <a:ext cx="20669400" cy="25119000"/>
            <a:chOff x="264960" y="4680000"/>
            <a:chExt cx="20669400" cy="25119000"/>
          </a:xfrm>
        </p:grpSpPr>
        <p:grpSp>
          <p:nvGrpSpPr>
            <p:cNvPr id="203" name="Group 25"/>
            <p:cNvGrpSpPr/>
            <p:nvPr/>
          </p:nvGrpSpPr>
          <p:grpSpPr>
            <a:xfrm>
              <a:off x="264960" y="8768880"/>
              <a:ext cx="20669400" cy="21030120"/>
              <a:chOff x="264960" y="8768880"/>
              <a:chExt cx="20669400" cy="21030120"/>
            </a:xfrm>
          </p:grpSpPr>
          <p:sp>
            <p:nvSpPr>
              <p:cNvPr id="204" name="AutoShape 50"/>
              <p:cNvSpPr/>
              <p:nvPr/>
            </p:nvSpPr>
            <p:spPr>
              <a:xfrm>
                <a:off x="264960" y="8794440"/>
                <a:ext cx="9995040" cy="21001320"/>
              </a:xfrm>
              <a:custGeom>
                <a:avLst/>
                <a:gdLst>
                  <a:gd name="textAreaLeft" fmla="*/ 204840 w 9995040"/>
                  <a:gd name="textAreaRight" fmla="*/ 9790200 w 9995040"/>
                  <a:gd name="textAreaTop" fmla="*/ 204840 h 21001320"/>
                  <a:gd name="textAreaBottom" fmla="*/ 20796480 h 21001320"/>
                </a:gdLst>
                <a:ahLst/>
                <a:rect l="textAreaLeft" t="textAreaTop" r="textAreaRight" b="textAreaBottom"/>
                <a:pathLst>
                  <a:path w="21600" h="45385">
                    <a:moveTo>
                      <a:pt x="1512" y="0"/>
                    </a:moveTo>
                    <a:arcTo wR="1512" hR="1512" stAng="16200000" swAng="-5400000"/>
                    <a:lnTo>
                      <a:pt x="0" y="43873"/>
                    </a:lnTo>
                    <a:arcTo wR="1512" hR="1512" stAng="10800000" swAng="-5400000"/>
                    <a:lnTo>
                      <a:pt x="20088" y="45385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f6f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4"/>
              <p:cNvSpPr/>
              <p:nvPr/>
            </p:nvSpPr>
            <p:spPr>
              <a:xfrm>
                <a:off x="10939320" y="8768880"/>
                <a:ext cx="9995040" cy="21030120"/>
              </a:xfrm>
              <a:custGeom>
                <a:avLst/>
                <a:gdLst>
                  <a:gd name="textAreaLeft" fmla="*/ 204840 w 9995040"/>
                  <a:gd name="textAreaRight" fmla="*/ 9790200 w 9995040"/>
                  <a:gd name="textAreaTop" fmla="*/ 204840 h 21030120"/>
                  <a:gd name="textAreaBottom" fmla="*/ 20825280 h 21030120"/>
                </a:gdLst>
                <a:ahLst/>
                <a:rect l="textAreaLeft" t="textAreaTop" r="textAreaRight" b="textAreaBottom"/>
                <a:pathLst>
                  <a:path w="21600" h="45447">
                    <a:moveTo>
                      <a:pt x="1512" y="0"/>
                    </a:moveTo>
                    <a:arcTo wR="1512" hR="1512" stAng="16200000" swAng="-5400000"/>
                    <a:lnTo>
                      <a:pt x="0" y="43935"/>
                    </a:lnTo>
                    <a:arcTo wR="1512" hR="1512" stAng="10800000" swAng="-5400000"/>
                    <a:lnTo>
                      <a:pt x="20088" y="45447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f6f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Rounded Rectangle 12"/>
            <p:cNvSpPr/>
            <p:nvPr/>
          </p:nvSpPr>
          <p:spPr>
            <a:xfrm>
              <a:off x="3043080" y="4680000"/>
              <a:ext cx="15454440" cy="3873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(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cs typeface="B Titr"/>
                </a:rPr>
                <a:t>عنوان مقاله حداکثر در 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12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 کلمه با قلم ب.تیتر </a:t>
              </a:r>
              <a:r>
                <a:rPr b="0" lang="en-US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pt. 60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cs typeface="B Titr"/>
                </a:rPr>
                <a:t>پررنگ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----- يک سطر فاصله (ب.نازنين 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32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پررنگ) -----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نام و نام خانوادگي نويسنده اول </a:t>
              </a:r>
              <a:r>
                <a:rPr b="0" lang="fa-IR" sz="2700" spc="-1" strike="noStrike" baseline="30000">
                  <a:solidFill>
                    <a:srgbClr val="000000"/>
                  </a:solidFill>
                  <a:latin typeface="Constantia"/>
                  <a:ea typeface="B Nazanin"/>
                </a:rPr>
                <a:t>*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نويسنده دوم، ... در يك يا دو سطر. از ذكر عناويني نظير مهندس و يا دكتر و ... در ابتداي اسامي خودداري شو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نام و نام خانوادگي نويسندگان به صورت کامل ذکر شود. (همراه با پسوند) (ب.نازنين 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32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پررنگ)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10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*- نويسنده مسئول: درجه علمي و رشته تخصصي (يا سمت كاري) نويسنده اول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راست چين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2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- درجه علمي و رشته تخصصي (يا سمت كاري) نويسنده دوم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راست چين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آدرس كوتاه نويسنده اول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ايتاليك) ، آدرس پست الكترونيك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Times New Roman 27 pt. Italic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آدرس كوتاه نويسنده دوم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ايتاليك) ، آدرس پست الكترونيك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Times New Roman 27 pt. Italic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2"/>
          <p:cNvSpPr/>
          <p:nvPr/>
        </p:nvSpPr>
        <p:spPr>
          <a:xfrm>
            <a:off x="11241000" y="10191600"/>
            <a:ext cx="9360000" cy="132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به منظور يكسان سازي مجموع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مقالات اين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لازم است كه همة مقالا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 طرحي يكسان و كاملاً هماهنگ تهيه و تايپ شوند.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(البته رنگ بندی پوستر به سلیقه نگارنده مقاله بستگی پیدا می‏کند).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ين راهنما به نويسندگان مقالات كمك مي‌كند تا مقالة خود را با طرح مورد قبول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 برای ارائه به صورت 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تهيه نمايند. توجه شود كه فرمت ظاهري اين راهنما و نگارش آن منطبق بر دستورالعمل مورد قبول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ست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اندازه پوستر باید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7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در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10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سانتیمتر باشد. ضروری است عنوان همایش و لوگوهای بالای پوستر حفظ شود و تغییر نکند. سایر زیباسازی ها در متن به شرط رعایت ساختار پیشنهادی زیر آزاد اس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براي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ساخت 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، فقط از نرم افزار مايكروساف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اورپوینت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نسخة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200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به بعد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استفاده كنيد. عنوان همة بخش‌ها با قلم ب.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تی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و انداز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Nazanin"/>
              </a:rPr>
              <a:t>pt.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5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پررنگ و عنوان زيربخش‌ها با قلم ب.نازنين و انداز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28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پررنگ تايپ شود. عنوان هر بخش يا زيربخش،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 يك خط خالي فاصله از انتهاي متن بخش قبل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تايپ و شماره‌گذاري شود.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خط اول همة پاراگراف‌ها بايد داراي تورفتگي به اندازة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cm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1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شد.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برای کلیه متون از حالت پاراگراف از راست (متن از راست به چپ)- حالت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Justify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- و براي تدوين بخشهای لاتين نيز بايستي کليه موارد مندرج در اين دستورالعمل رعايت شود و برای نگارش بخش های لاتین بايد از قلم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Times New Roma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 اندازه فونت يکي کمتر از حالت فارسي </a:t>
            </a:r>
            <a:r>
              <a:rPr b="1" lang="fa-IR" sz="20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معادل آن استفاده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833400" y="15791040"/>
            <a:ext cx="881532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 rtl="1">
              <a:spcBef>
                <a:spcPts val="2812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نتایج و تحلیل</a:t>
            </a:r>
            <a:r>
              <a:rPr b="1" lang="fa-IR" sz="4500" spc="-1" strike="noStrike">
                <a:solidFill>
                  <a:srgbClr val="000000"/>
                </a:solidFill>
                <a:latin typeface="Arial"/>
                <a:ea typeface="B Titr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وجود بخش جمع‌بندي و نتيجه‌گيري پس از متن اصلي مقاله الزامي است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Majalla U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1258920" y="23095080"/>
            <a:ext cx="881532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 rtl="1">
              <a:spcBef>
                <a:spcPts val="3626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منابع اصلی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برخی ا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مراجع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اصلی د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ر انتهاي مقاله به همان ترتيبي كه در متن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پوستر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به آنها ارجاع مي‌شود، مي‌آي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12912840" y="8985240"/>
            <a:ext cx="582120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چکیده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(حداکثر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120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 کلمه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833400" y="9085320"/>
            <a:ext cx="82692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Titr"/>
              </a:rPr>
              <a:t>ادامه مبانی نظری و متن اصلی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2706200" y="19810440"/>
            <a:ext cx="6429600" cy="1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سوال و هدف تحقیق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0"/>
          <p:cNvSpPr/>
          <p:nvPr/>
        </p:nvSpPr>
        <p:spPr>
          <a:xfrm>
            <a:off x="11633040" y="23095080"/>
            <a:ext cx="85759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مبانی نظری و متن اصلی مقاله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0" y="-108000"/>
            <a:ext cx="212421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4411800" y="11380680"/>
            <a:ext cx="13817520" cy="11028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4464000" y="8569440"/>
            <a:ext cx="138780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0:20:37Z</dcterms:created>
  <dc:creator>Ethan Shulda</dc:creator>
  <dc:description>©MegaPrint Inc. 2009</dc:description>
  <dc:language>en-US</dc:language>
  <cp:lastModifiedBy>User</cp:lastModifiedBy>
  <dcterms:modified xsi:type="dcterms:W3CDTF">2015-12-15T10:50:16Z</dcterms:modified>
  <cp:revision>94</cp:revision>
  <dc:subject/>
  <dc:title>70x100 cm vertical poster template</dc:title>
</cp:coreProperties>
</file>