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21243925" cy="30243463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102800" cy="1023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2204640" y="766800"/>
            <a:ext cx="2693880" cy="383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161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3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7185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4022280" y="971856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651C-F84E-4440-8FB3-F8A9E1724B41}" type="slidenum">
              <a:rPr b="0" lang="ar-S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2640" y="971856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8F41-553A-4F2B-84B7-F1C22E7B87E6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205000" y="766800"/>
            <a:ext cx="2693880" cy="3836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EB6D-7648-4EC8-8D64-043856A8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135B-A7B5-4AE5-8948-D54A4918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B99F-F1C2-4C61-85AC-225F0F24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75258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9896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20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75258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139896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5315-C8CF-45F4-B7F0-A64483DCC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9C07-B26D-422B-90FA-BDB16709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B787-69FC-4406-8413-77F6E5B2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C754-FA23-4863-B252-2E75D500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F95D-3FF8-4985-9E19-C8E42B38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750B-AE02-4752-A257-012FD9B4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2000" y="3104640"/>
            <a:ext cx="191181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FCF4-3720-4DEA-BEF2-F1CD12E5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43B8-D855-4B19-B6BE-1DF5D7A4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A6FB-C1BF-4A57-BF1B-5A04644C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1EC1-B236-47C1-9822-F28563D7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A135-FA2D-49AA-A4F8-53EBAD4B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DC21-CF69-4C32-9B36-B4A87BDB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FB6D-65E1-4629-9601-871F528C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75258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9896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20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75258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139896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93FB-1808-412D-B3DC-01DA76CD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0971A-6F78-4E59-8D2A-C1FB64E3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B3BFB-DF29-41E7-8D94-194F1499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EC770-194A-45A6-9D26-9E20172E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81B42-1529-419E-ADE5-386A8BCB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4E72B-F260-4868-B9FC-4E265FFB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4DD9-AE53-4A03-B185-55473B64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2000" y="3104640"/>
            <a:ext cx="191181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5BEFA-9E3C-4978-9F1A-C21C861A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3BC8D-B890-4A94-BE9F-641C46E5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E3BFE-31A6-4F4E-898F-823C9A1E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86948-93F8-4053-8A9E-012F4BEA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4CDA3-9D1A-4980-AF1C-97B7065D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67261-3749-4BBE-A26B-61AC4156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5258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9896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20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75258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139896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F2226-DF14-43F7-ACAE-38532C9E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687B4-808F-4708-8805-9D5307C0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C30E5-B128-44DF-8FA8-1EFA75E9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3F40E-DAD3-47FF-85F0-855E9155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18AE-FEF7-494A-ADE6-2B407768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BF69B-B8FC-48E3-BA71-44B62E07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18AB5-F7BC-4A9B-8AD4-68E7A7C9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62000" y="3104640"/>
            <a:ext cx="191181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F5AFA-587D-417D-81C5-100B532E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A9CFD-7DEA-4DD9-B7CE-9AFFDE63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45854-2873-471A-8A1F-348E7195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AAD25-5824-4B7B-8434-72AB0FDA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2E5E3-B0DA-4062-B33F-6C410B48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5E115-CC67-4F96-92CE-77DC832F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5258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9896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0620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75258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139896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6BA9A-7ECA-45A5-B490-2EADBC27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C6EF-75C1-41C6-A9EB-C68E1FCF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2000" y="3104640"/>
            <a:ext cx="191181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B38E-FDB9-48A5-8D2D-805A1C40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AE5F-4217-42E9-AA3D-E8C5DBD1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2A37-1353-4CE7-8AD7-B8BC5DCA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39BA-E9E7-4FD8-A60E-C9A3CAA0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22320" y="-31680"/>
            <a:ext cx="21286800" cy="4592520"/>
          </a:xfrm>
          <a:custGeom>
            <a:avLst/>
            <a:gdLst>
              <a:gd name="textAreaLeft" fmla="*/ 0 w 21286800"/>
              <a:gd name="textAreaRight" fmla="*/ 21287160 w 21286800"/>
              <a:gd name="textAreaTop" fmla="*/ 0 h 4592520"/>
              <a:gd name="textAreaBottom" fmla="*/ 4592880 h 459252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10179000" y="-31680"/>
            <a:ext cx="11063160" cy="2814480"/>
          </a:xfrm>
          <a:custGeom>
            <a:avLst/>
            <a:gdLst>
              <a:gd name="textAreaLeft" fmla="*/ 0 w 11063160"/>
              <a:gd name="textAreaRight" fmla="*/ 11063520 w 11063160"/>
              <a:gd name="textAreaTop" fmla="*/ 0 h 2814480"/>
              <a:gd name="textAreaBottom" fmla="*/ 2814840 h 28144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880920" indent="-880920">
              <a:spcBef>
                <a:spcPts val="2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1" marL="2058840" indent="-793440">
              <a:spcBef>
                <a:spcPts val="21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2" marL="2941560" indent="-793800">
              <a:spcBef>
                <a:spcPts val="21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3" marL="3824280" indent="-676440">
              <a:spcBef>
                <a:spcPts val="21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4" marL="4707000" indent="-676440">
              <a:spcBef>
                <a:spcPts val="21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5" marL="4707000" indent="-676440">
              <a:spcBef>
                <a:spcPts val="21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6" marL="4707000" indent="-676440">
              <a:spcBef>
                <a:spcPts val="21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61640" y="28030320"/>
            <a:ext cx="49561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195960" y="28030320"/>
            <a:ext cx="778824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8410400" y="28030320"/>
            <a:ext cx="176976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64FD-5BB3-41F1-8264-7CE30DF136FF}" type="slidenum">
              <a:rPr b="0" lang="en-US" sz="39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44280" y="892080"/>
            <a:ext cx="21327840" cy="2863800"/>
            <a:chOff x="-44280" y="892080"/>
            <a:chExt cx="21327840" cy="28638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37800" y="892080"/>
              <a:ext cx="21266640" cy="2863800"/>
              <a:chOff x="-37800" y="892080"/>
              <a:chExt cx="21266640" cy="28638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1000" y="892080"/>
                <a:ext cx="21147840" cy="28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37440" y="169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44280" y="1145160"/>
              <a:ext cx="21327840" cy="2381040"/>
              <a:chOff x="-44280" y="1145160"/>
              <a:chExt cx="21327840" cy="238104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45000" y="1145160"/>
                <a:ext cx="21238560" cy="23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43920" y="1949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22320" y="-31680"/>
            <a:ext cx="21286800" cy="4592520"/>
          </a:xfrm>
          <a:custGeom>
            <a:avLst/>
            <a:gdLst>
              <a:gd name="textAreaLeft" fmla="*/ 0 w 21286800"/>
              <a:gd name="textAreaRight" fmla="*/ 21287160 w 21286800"/>
              <a:gd name="textAreaTop" fmla="*/ 0 h 4592520"/>
              <a:gd name="textAreaBottom" fmla="*/ 4592880 h 459252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10179000" y="-31680"/>
            <a:ext cx="11063160" cy="2814480"/>
          </a:xfrm>
          <a:custGeom>
            <a:avLst/>
            <a:gdLst>
              <a:gd name="textAreaLeft" fmla="*/ 0 w 11063160"/>
              <a:gd name="textAreaRight" fmla="*/ 11063520 w 11063160"/>
              <a:gd name="textAreaTop" fmla="*/ 0 h 2814480"/>
              <a:gd name="textAreaBottom" fmla="*/ 2814840 h 28144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44280" y="892080"/>
            <a:ext cx="21327840" cy="2863800"/>
            <a:chOff x="-44280" y="892080"/>
            <a:chExt cx="21327840" cy="28638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37800" y="892080"/>
              <a:ext cx="21266640" cy="2863800"/>
              <a:chOff x="-37800" y="892080"/>
              <a:chExt cx="21266640" cy="28638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1000" y="892080"/>
                <a:ext cx="21147840" cy="28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37440" y="169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44280" y="1145160"/>
              <a:ext cx="21327840" cy="2381040"/>
              <a:chOff x="-44280" y="1145160"/>
              <a:chExt cx="21327840" cy="238104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45000" y="1145160"/>
                <a:ext cx="21238560" cy="23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43920" y="1949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880920" indent="-880920">
              <a:spcBef>
                <a:spcPts val="2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1" marL="2058840" indent="-793440">
              <a:spcBef>
                <a:spcPts val="21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2" marL="2941560" indent="-793800">
              <a:spcBef>
                <a:spcPts val="21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3" marL="3824280" indent="-676440">
              <a:spcBef>
                <a:spcPts val="21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4" marL="4707000" indent="-676440">
              <a:spcBef>
                <a:spcPts val="21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5" marL="4707000" indent="-676440">
              <a:spcBef>
                <a:spcPts val="21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6" marL="4707000" indent="-676440">
              <a:spcBef>
                <a:spcPts val="21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1061640" y="28030320"/>
            <a:ext cx="49561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6195960" y="28030320"/>
            <a:ext cx="778824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8410400" y="28030320"/>
            <a:ext cx="176976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A65B-1BCB-480E-87C9-707DF60DF79A}" type="slidenum">
              <a:rPr b="0" lang="en-US" sz="39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22320" y="-31680"/>
            <a:ext cx="21286800" cy="4592520"/>
          </a:xfrm>
          <a:custGeom>
            <a:avLst/>
            <a:gdLst>
              <a:gd name="textAreaLeft" fmla="*/ 0 w 21286800"/>
              <a:gd name="textAreaRight" fmla="*/ 21287160 w 21286800"/>
              <a:gd name="textAreaTop" fmla="*/ 0 h 4592520"/>
              <a:gd name="textAreaBottom" fmla="*/ 4592880 h 459252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10179000" y="-31680"/>
            <a:ext cx="11063160" cy="2814480"/>
          </a:xfrm>
          <a:custGeom>
            <a:avLst/>
            <a:gdLst>
              <a:gd name="textAreaLeft" fmla="*/ 0 w 11063160"/>
              <a:gd name="textAreaRight" fmla="*/ 11063520 w 11063160"/>
              <a:gd name="textAreaTop" fmla="*/ 0 h 2814480"/>
              <a:gd name="textAreaBottom" fmla="*/ 2814840 h 28144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44280" y="892080"/>
            <a:ext cx="21327840" cy="2863800"/>
            <a:chOff x="-44280" y="892080"/>
            <a:chExt cx="21327840" cy="28638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37800" y="892080"/>
              <a:ext cx="21266640" cy="2863800"/>
              <a:chOff x="-37800" y="892080"/>
              <a:chExt cx="21266640" cy="28638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1000" y="892080"/>
                <a:ext cx="21147840" cy="28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37440" y="169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44280" y="1145160"/>
              <a:ext cx="21327840" cy="2381040"/>
              <a:chOff x="-44280" y="1145160"/>
              <a:chExt cx="21327840" cy="238104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45000" y="1145160"/>
                <a:ext cx="21238560" cy="23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43920" y="1949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880920" indent="-880920">
              <a:spcBef>
                <a:spcPts val="2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1" marL="2058840" indent="-793440">
              <a:spcBef>
                <a:spcPts val="21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2" marL="2941560" indent="-793800">
              <a:spcBef>
                <a:spcPts val="21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3" marL="3824280" indent="-676440">
              <a:spcBef>
                <a:spcPts val="21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4" marL="4707000" indent="-676440">
              <a:spcBef>
                <a:spcPts val="21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5" marL="4707000" indent="-676440">
              <a:spcBef>
                <a:spcPts val="21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6" marL="4707000" indent="-676440">
              <a:spcBef>
                <a:spcPts val="21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061640" y="28030320"/>
            <a:ext cx="49561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6195960" y="28030320"/>
            <a:ext cx="778824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18410400" y="28030320"/>
            <a:ext cx="176976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3EAA-27FF-4C25-A386-8D4871653561}" type="slidenum">
              <a:rPr b="0" lang="en-US" sz="39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7354800" y="4885200"/>
            <a:ext cx="12214440" cy="18146880"/>
          </a:xfrm>
          <a:custGeom>
            <a:avLst/>
            <a:gdLst/>
            <a:ahLst/>
            <a:rect l="l" t="t" r="r" b="b"/>
            <a:pathLst>
              <a:path w="12214225" h="18146713">
                <a:moveTo>
                  <a:pt x="0" y="0"/>
                </a:moveTo>
                <a:lnTo>
                  <a:pt x="11768894" y="0"/>
                </a:lnTo>
                <a:lnTo>
                  <a:pt x="12214225" y="445331"/>
                </a:lnTo>
                <a:lnTo>
                  <a:pt x="12214225" y="18146713"/>
                </a:lnTo>
                <a:lnTo>
                  <a:pt x="0" y="1814671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ctr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18594360" y="23635080"/>
            <a:ext cx="360360" cy="68580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94120" rIns="294120" tIns="75240" bIns="75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21960" y="25650720"/>
            <a:ext cx="21286800" cy="4592880"/>
          </a:xfrm>
          <a:custGeom>
            <a:avLst/>
            <a:gdLst>
              <a:gd name="textAreaLeft" fmla="*/ 0 w 21286800"/>
              <a:gd name="textAreaRight" fmla="*/ 21287160 w 21286800"/>
              <a:gd name="textAreaTop" fmla="*/ 360 h 4592880"/>
              <a:gd name="textAreaBottom" fmla="*/ 4593600 h 45928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10179000" y="27428040"/>
            <a:ext cx="11063160" cy="2814840"/>
          </a:xfrm>
          <a:custGeom>
            <a:avLst/>
            <a:gdLst>
              <a:gd name="textAreaLeft" fmla="*/ 0 w 11063160"/>
              <a:gd name="textAreaRight" fmla="*/ 11063520 w 11063160"/>
              <a:gd name="textAreaTop" fmla="*/ -360 h 2814840"/>
              <a:gd name="textAreaBottom" fmla="*/ 2814840 h 281484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880920" indent="-880920">
              <a:spcBef>
                <a:spcPts val="2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1" marL="2058840" indent="-793440">
              <a:spcBef>
                <a:spcPts val="21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2" marL="2941560" indent="-793800">
              <a:spcBef>
                <a:spcPts val="21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3" marL="3824280" indent="-676440">
              <a:spcBef>
                <a:spcPts val="21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4" marL="4707000" indent="-676440">
              <a:spcBef>
                <a:spcPts val="21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5" marL="4707000" indent="-676440">
              <a:spcBef>
                <a:spcPts val="21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6" marL="4707000" indent="-676440">
              <a:spcBef>
                <a:spcPts val="21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1061640" y="28030320"/>
            <a:ext cx="49561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6195960" y="28030320"/>
            <a:ext cx="778824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18763920" y="28030320"/>
            <a:ext cx="141588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807A-CFE9-424C-80E0-165C8123840B}" type="slidenum">
              <a:rPr b="0" lang="en-US" sz="39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34"/>
          <p:cNvGrpSpPr/>
          <p:nvPr/>
        </p:nvGrpSpPr>
        <p:grpSpPr>
          <a:xfrm>
            <a:off x="264960" y="4680000"/>
            <a:ext cx="20669400" cy="25119000"/>
            <a:chOff x="264960" y="4680000"/>
            <a:chExt cx="20669400" cy="25119000"/>
          </a:xfrm>
        </p:grpSpPr>
        <p:grpSp>
          <p:nvGrpSpPr>
            <p:cNvPr id="203" name="Group 25"/>
            <p:cNvGrpSpPr/>
            <p:nvPr/>
          </p:nvGrpSpPr>
          <p:grpSpPr>
            <a:xfrm>
              <a:off x="264960" y="8768880"/>
              <a:ext cx="20669400" cy="21030120"/>
              <a:chOff x="264960" y="8768880"/>
              <a:chExt cx="20669400" cy="21030120"/>
            </a:xfrm>
          </p:grpSpPr>
          <p:sp>
            <p:nvSpPr>
              <p:cNvPr id="204" name="AutoShape 50"/>
              <p:cNvSpPr/>
              <p:nvPr/>
            </p:nvSpPr>
            <p:spPr>
              <a:xfrm>
                <a:off x="264960" y="8794440"/>
                <a:ext cx="9995040" cy="21001320"/>
              </a:xfrm>
              <a:custGeom>
                <a:avLst/>
                <a:gdLst>
                  <a:gd name="textAreaLeft" fmla="*/ 204840 w 9995040"/>
                  <a:gd name="textAreaRight" fmla="*/ 9790200 w 9995040"/>
                  <a:gd name="textAreaTop" fmla="*/ 204840 h 21001320"/>
                  <a:gd name="textAreaBottom" fmla="*/ 20796480 h 21001320"/>
                </a:gdLst>
                <a:ahLst/>
                <a:rect l="textAreaLeft" t="textAreaTop" r="textAreaRight" b="textAreaBottom"/>
                <a:pathLst>
                  <a:path w="21600" h="45385">
                    <a:moveTo>
                      <a:pt x="1512" y="0"/>
                    </a:moveTo>
                    <a:arcTo wR="1512" hR="1512" stAng="16200000" swAng="-5400000"/>
                    <a:lnTo>
                      <a:pt x="0" y="43873"/>
                    </a:lnTo>
                    <a:arcTo wR="1512" hR="1512" stAng="10800000" swAng="-5400000"/>
                    <a:lnTo>
                      <a:pt x="20088" y="45385"/>
                    </a:lnTo>
                    <a:arcTo wR="1512" hR="1512" stAng="5400000" swAng="-5400000"/>
                    <a:lnTo>
                      <a:pt x="21600" y="1512"/>
                    </a:lnTo>
                    <a:arcTo wR="1512" hR="1512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f6f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AutoShape 4"/>
              <p:cNvSpPr/>
              <p:nvPr/>
            </p:nvSpPr>
            <p:spPr>
              <a:xfrm>
                <a:off x="10939320" y="8768880"/>
                <a:ext cx="9995040" cy="21030120"/>
              </a:xfrm>
              <a:custGeom>
                <a:avLst/>
                <a:gdLst>
                  <a:gd name="textAreaLeft" fmla="*/ 204840 w 9995040"/>
                  <a:gd name="textAreaRight" fmla="*/ 9790200 w 9995040"/>
                  <a:gd name="textAreaTop" fmla="*/ 204840 h 21030120"/>
                  <a:gd name="textAreaBottom" fmla="*/ 20825280 h 21030120"/>
                </a:gdLst>
                <a:ahLst/>
                <a:rect l="textAreaLeft" t="textAreaTop" r="textAreaRight" b="textAreaBottom"/>
                <a:pathLst>
                  <a:path w="21600" h="45447">
                    <a:moveTo>
                      <a:pt x="1512" y="0"/>
                    </a:moveTo>
                    <a:arcTo wR="1512" hR="1512" stAng="16200000" swAng="-5400000"/>
                    <a:lnTo>
                      <a:pt x="0" y="43935"/>
                    </a:lnTo>
                    <a:arcTo wR="1512" hR="1512" stAng="10800000" swAng="-5400000"/>
                    <a:lnTo>
                      <a:pt x="20088" y="45447"/>
                    </a:lnTo>
                    <a:arcTo wR="1512" hR="1512" stAng="5400000" swAng="-5400000"/>
                    <a:lnTo>
                      <a:pt x="21600" y="1512"/>
                    </a:lnTo>
                    <a:arcTo wR="1512" hR="1512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f6f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Rounded Rectangle 12"/>
            <p:cNvSpPr/>
            <p:nvPr/>
          </p:nvSpPr>
          <p:spPr>
            <a:xfrm>
              <a:off x="3043080" y="4680000"/>
              <a:ext cx="15454440" cy="3873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(</a:t>
              </a:r>
              <a:r>
                <a:rPr b="0" lang="fa-IR" sz="5000" spc="-1" strike="noStrike">
                  <a:solidFill>
                    <a:srgbClr val="000000"/>
                  </a:solidFill>
                  <a:latin typeface="Constantia"/>
                  <a:cs typeface="B Titr"/>
                </a:rPr>
                <a:t>عنوان مقاله حداکثر در </a:t>
              </a:r>
              <a:r>
                <a:rPr b="0" lang="fa-IR" sz="5000" spc="-1" strike="noStrike">
                  <a:solidFill>
                    <a:srgbClr val="000000"/>
                  </a:solidFill>
                  <a:latin typeface="Constantia"/>
                  <a:ea typeface="B Titr"/>
                </a:rPr>
                <a:t>12</a:t>
              </a:r>
              <a:r>
                <a:rPr b="0" lang="fa-IR" sz="5000" spc="-1" strike="noStrike">
                  <a:solidFill>
                    <a:srgbClr val="000000"/>
                  </a:solidFill>
                  <a:latin typeface="Constantia"/>
                  <a:ea typeface="B Titr"/>
                </a:rPr>
                <a:t> کلمه با قلم ب.تیتر </a:t>
              </a:r>
              <a:r>
                <a:rPr b="0" lang="en-US" sz="5000" spc="-1" strike="noStrike">
                  <a:solidFill>
                    <a:srgbClr val="000000"/>
                  </a:solidFill>
                  <a:latin typeface="Constantia"/>
                  <a:ea typeface="B Titr"/>
                </a:rPr>
                <a:t>pt. 60</a:t>
              </a:r>
              <a:r>
                <a:rPr b="0" lang="fa-IR" sz="5000" spc="-1" strike="noStrike">
                  <a:solidFill>
                    <a:srgbClr val="000000"/>
                  </a:solidFill>
                  <a:latin typeface="Constantia"/>
                  <a:cs typeface="B Titr"/>
                </a:rPr>
                <a:t>پررنگ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)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----- يک سطر فاصله (ب.نازنين </a:t>
              </a: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32</a:t>
              </a: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پررنگ) -----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نام و نام خانوادگي نويسنده اول </a:t>
              </a:r>
              <a:r>
                <a:rPr b="0" lang="fa-IR" sz="2700" spc="-1" strike="noStrike" baseline="30000">
                  <a:solidFill>
                    <a:srgbClr val="000000"/>
                  </a:solidFill>
                  <a:latin typeface="Constantia"/>
                  <a:ea typeface="B Nazanin"/>
                </a:rPr>
                <a:t>*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، نويسنده دوم، ... در يك يا دو سطر. از ذكر عناويني نظير مهندس و يا دكتر و ... در ابتداي اسامي خودداري شود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نام و نام خانوادگي نويسندگان به صورت کامل ذکر شود. (همراه با پسوند) (ب.نازنين </a:t>
              </a: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32</a:t>
              </a: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پررنگ)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10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*- نويسنده مسئول: درجه علمي و رشته تخصصي (يا سمت كاري) نويسنده اول (ب.نازنين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28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، 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راست چين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2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- درجه علمي و رشته تخصصي (يا سمت كاري) نويسنده دوم (ب.نازنين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28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، 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راست چين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آدرس كوتاه نويسنده اول (ب.نازنين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28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ايتاليك) ، آدرس پست الكترونيك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Times New Roman 27 pt. Italic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آدرس كوتاه نويسنده دوم (ب.نازنين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28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ايتاليك) ، آدرس پست الكترونيك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Times New Roman 27 pt. Italic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42"/>
          <p:cNvSpPr/>
          <p:nvPr/>
        </p:nvSpPr>
        <p:spPr>
          <a:xfrm>
            <a:off x="11241000" y="10191600"/>
            <a:ext cx="9360000" cy="1322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به منظور يكسان سازي مجموع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پوست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مقالات اين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همایش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لازم است كه همة مقالات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ا طرحي يكسان و كاملاً هماهنگ تهيه و تايپ شوند.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(البته رنگ بندی پوستر به سلیقه نگارنده مقاله بستگی پیدا می‏کند).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اين راهنما به نويسندگان مقالات كمك مي‌كند تا مقالة خود را با طرح مورد قبول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همایش برای ارائه به صورت پوست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تهيه نمايند. توجه شود كه فرمت ظاهري اين راهنما و نگارش آن منطبق بر دستورالعمل مورد قبول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همایش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است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اندازه پوستر باید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70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در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100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 سانتیمتر باشد. ضروری است عنوان همایش و لوگوهای بالای پوستر حفظ شود و تغییر نکند. سایر زیباسازی ها در متن به شرط رعایت ساختار پیشنهادی زیر آزاد است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براي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ساخت پوست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، فقط از نرم افزار مايكروسافت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پاورپوینت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نسخة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200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 به بعد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استفاده كنيد. عنوان همة بخش‌ها با قلم ب.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تیت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و انداز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B Nazanin"/>
              </a:rPr>
              <a:t>pt.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5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پررنگ و عنوان زيربخش‌ها با قلم ب.نازنين و انداز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28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پررنگ تايپ شود. عنوان هر بخش يا زيربخش،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با يك خط خالي فاصله از انتهاي متن بخش قبلي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تايپ و شماره‌گذاري شود.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خط اول همة پاراگراف‌ها بايد داراي تورفتگي به اندازة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cm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 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1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باشد.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 برای کلیه متون از حالت پاراگراف از راست (متن از راست به چپ)- حالت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Justify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- و براي تدوين بخشهای لاتين نيز بايستي کليه موارد مندرج در اين دستورالعمل رعايت شود و برای نگارش بخش های لاتین بايد از قلم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Times New Roma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 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با اندازه فونت يکي کمتر از حالت فارسي </a:t>
            </a:r>
            <a:r>
              <a:rPr b="1" lang="fa-IR" sz="20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معادل آن استفاده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833400" y="15791040"/>
            <a:ext cx="881532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spAutoFit/>
          </a:bodyPr>
          <a:p>
            <a:pPr algn="ctr" rtl="1">
              <a:spcBef>
                <a:spcPts val="2812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نتایج و تحلیل</a:t>
            </a:r>
            <a:r>
              <a:rPr b="1" lang="fa-IR" sz="4500" spc="-1" strike="noStrike">
                <a:solidFill>
                  <a:srgbClr val="000000"/>
                </a:solidFill>
                <a:latin typeface="Arial"/>
                <a:ea typeface="B Titr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B Nazanin"/>
              </a:rPr>
              <a:t>وجود بخش جمع‌بندي و نتيجه‌گيري پس از متن اصلي مقاله الزامي است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Majalla U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063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63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1258920" y="23095080"/>
            <a:ext cx="8815320" cy="56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spAutoFit/>
          </a:bodyPr>
          <a:p>
            <a:pPr algn="ctr" rtl="1">
              <a:spcBef>
                <a:spcPts val="3626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منابع اصلی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برخی از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B Nazanin"/>
              </a:rPr>
              <a:t>مراجع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اصلی د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B Nazanin"/>
              </a:rPr>
              <a:t>ر انتهاي مقاله به همان ترتيبي كه در متن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پوستر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B Nazanin"/>
              </a:rPr>
              <a:t>به آنها ارجاع مي‌شود، مي‌آين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063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63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2"/>
          <p:cNvSpPr/>
          <p:nvPr/>
        </p:nvSpPr>
        <p:spPr>
          <a:xfrm>
            <a:off x="12912840" y="8985240"/>
            <a:ext cx="582120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25200" bIns="252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2421000"/>
                <a:tab algn="l" pos="4842000"/>
                <a:tab algn="l" pos="7262640"/>
                <a:tab algn="l" pos="968364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چکیده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Titr"/>
              </a:rPr>
              <a:t>(حداکثر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Titr"/>
              </a:rPr>
              <a:t>120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Titr"/>
              </a:rPr>
              <a:t> کلمه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3"/>
          <p:cNvSpPr/>
          <p:nvPr/>
        </p:nvSpPr>
        <p:spPr>
          <a:xfrm>
            <a:off x="833400" y="9085320"/>
            <a:ext cx="82692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25200" bIns="25200" anchor="t">
            <a:spAutoFit/>
          </a:bodyPr>
          <a:p>
            <a:pPr algn="ctr">
              <a:tabLst>
                <a:tab algn="l" pos="0"/>
                <a:tab algn="l" pos="2421000"/>
                <a:tab algn="l" pos="4842000"/>
                <a:tab algn="l" pos="7262640"/>
                <a:tab algn="l" pos="968364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Titr"/>
              </a:rPr>
              <a:t>ادامه مبانی نظری و متن اصلی مقا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2706200" y="19810440"/>
            <a:ext cx="6429600" cy="18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25200" bIns="252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2421000"/>
                <a:tab algn="l" pos="4842000"/>
                <a:tab algn="l" pos="7262640"/>
                <a:tab algn="l" pos="968364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سوال و هدف تحقیق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0"/>
          <p:cNvSpPr/>
          <p:nvPr/>
        </p:nvSpPr>
        <p:spPr>
          <a:xfrm>
            <a:off x="11633040" y="23095080"/>
            <a:ext cx="857592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مبانی نظری و متن اصلی مقاله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0" y="-108000"/>
            <a:ext cx="2124216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ontent Placeholder 3" descr=""/>
          <p:cNvPicPr/>
          <p:nvPr/>
        </p:nvPicPr>
        <p:blipFill>
          <a:blip r:embed="rId1"/>
          <a:stretch/>
        </p:blipFill>
        <p:spPr>
          <a:xfrm>
            <a:off x="4411800" y="11380680"/>
            <a:ext cx="13817520" cy="110286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4464000" y="8569440"/>
            <a:ext cx="1387800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0:20:37Z</dcterms:created>
  <dc:creator>Ethan Shulda</dc:creator>
  <dc:description>©MegaPrint Inc. 2009</dc:description>
  <dc:language>en-US</dc:language>
  <cp:lastModifiedBy>User</cp:lastModifiedBy>
  <dcterms:modified xsi:type="dcterms:W3CDTF">2015-12-15T10:50:16Z</dcterms:modified>
  <cp:revision>94</cp:revision>
  <dc:subject/>
  <dc:title>70x100 cm vertical poster template</dc:title>
</cp:coreProperties>
</file>