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69AAF-2981-4C79-8F68-C2EB99C642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737A-6DED-4436-BF09-DF8CC4FA57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07F-BE53-42A7-BAA8-B1D71164E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887A-BB74-43B6-AF02-D6550FAC8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F37-9C9E-4FD7-9A62-081DBD2F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E6BF-70AD-4D00-8BA4-45D29F1F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7F27-1AAF-49F0-BF74-D8E6C4FA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B5C9-D2C0-4091-998F-FB808449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2032-E874-4BB6-878C-FDA84B1D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9895-D516-4658-871B-CE6E10C0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95C95-3C98-40DB-8C16-C2BFBAC2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9EA0-8D56-4DAB-8971-02B853098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3E95-1E27-4D6F-B4AD-A0C2FDBF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D661-EF27-478F-A872-3282ABC4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3536-89B1-4E6C-861A-CD6329E9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6110-1804-47DE-8EE4-BC002336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EEBF-2EE2-404F-B12B-FEC8CF0E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9B1F-A0BE-4DFF-9F87-8FE06F3C3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0EA9B-DF4A-465A-AF97-8D0D880D8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88F5F-7C24-4444-BCDF-DD2758E1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61520-E5DD-42AB-AD96-10D531683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D16E6E-CF1F-4202-8BE5-03FC2FC08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92FF-C163-4486-A183-E2AAA2DB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98576-0557-41D1-B96C-29DF0F8E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B348-7C0D-4E75-84DA-C532740D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4A295-B313-4619-80A3-3AA59EB2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B26F-20BD-46F4-9567-6A553FBD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06B46-8E8D-43BF-BDBA-899C1875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BAA6-2932-4E13-920C-C27BA385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28B58-0558-491D-9E63-63458068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B58F6-D9AF-497E-9080-D717CBE2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BCE1D-F066-49C7-8ABE-AD6B13C3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87BC6-CE78-4578-977F-AD209971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BC7EB-B1AC-4BBA-BF66-98F1BEB2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44F55-8114-421C-8162-C204C9C1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B89B-FB47-47F7-A33D-C855E985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A2FA7-9766-4551-83EC-AC15A0BF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0BA08-CDCA-4C11-9E6F-C35844AC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1204C-4679-4ABF-8390-CA448335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E64C1-7869-44B2-AAD7-6AB596B4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CF6E6-ADBE-4AA6-843D-BFD579D6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92C6-22ED-41A2-AA16-E6D78EE9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3C2B0-436E-40C2-8541-1A674B49A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9A7D4-36DB-493F-8405-7D807C27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0D48B-8C32-4C71-B6D9-EDB2AEA6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138FA-39F8-4623-8985-64CE9C7F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5DE-45CC-45E7-84FF-07C30935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A0D64-64C0-43FB-9625-0F6AFF50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370B2-05D7-43C2-AFED-B80E798F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6E636-3B39-4505-BA79-91A1BE31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A8151-97AA-4335-9C4D-0BC227BA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0C938-2D54-4F46-B612-F510AB59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868FE-BD1C-407D-8541-4D141347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A0951-609C-4F0A-99D3-3B693822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DDC1A-B640-4D37-9481-DDEF4CF9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D33DF-1117-41FC-B21B-6FBC59238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FCBD1-C8AC-4D7A-9E0B-DF6BD9C9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C5B-59AE-4679-AC8E-F7E92018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81F57-51D8-4E89-86BD-9A4B9193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6E3B1-17E6-41AE-AFDC-B0CD2654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64C2C-AA56-4021-AE80-C9A50707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EFCB6-31A3-4621-B00A-83D29C84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5B149-3D75-45BD-A90D-8D6C84AD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00396-C5C6-48BF-9BE3-A92BE479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F842F-68D1-4E18-ABE6-3DBDD948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F7314-03E7-4226-A84F-AD1DE69C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37F43-1EA4-4562-BD98-5B2DF2EC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A199E-8ADB-4A46-9B76-6D1814D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5855-1B24-49E8-8BB0-E38B4FFB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C5DD2-440F-41B1-A20A-0344AC3E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2A095-B184-478A-A561-31E9CC86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C2D25-3BF1-45E2-9A3D-B84A4D13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6853A-EEDD-4461-A9FA-56466278B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C8143-5BCB-408F-94D2-06857442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257F1-8D78-452E-8DF8-E2AF7F0B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E0A4D-AFD7-4630-A2BF-D0C66DAB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4037C-5A4B-47D0-975E-BAA2127F5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15C01-1AAB-4D8B-8799-EFCE5EAB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01555-E680-44E0-B4CF-E369F5F21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B31-5121-47C2-A9B4-2AE77175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80926-31BE-4D2B-8887-FEE9B7F7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BCAD8-B48C-4B9F-89F3-2C6EB217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0AF4B-98FA-45A7-BD2B-28898800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6778A-A42B-492E-B9E6-1595BD23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7EEEC-7F3B-49FA-85A9-3524FAB38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24575-9C0C-497C-994B-6A6134FCA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F5B19-16C2-49E8-B959-FA414404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C9F5F-B20D-42EB-BE51-A26EDC12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9A0DC6-EBC6-446A-BAC5-F707A70D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F6AC5-0592-4D77-B1F9-F4DC25AE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973-8E5C-4F7D-B5EE-4B466C18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59439-A7B7-4894-9D0C-7B71BA7C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DC1C8-70BD-463A-826E-B02807FC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350C8-3107-4402-A1A7-BAF1FEF2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3D1A7-F6BD-4AEE-9E7D-33CD0FE0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BC552-2BCE-4E16-A6D1-A4EA3C1C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F7C632-C254-4682-A6FF-DE11B20D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C904A-C09F-4508-9DBC-C36BA95A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D9DB-139E-4F9E-9570-C2CE5F68282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19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A2B0-1DE3-4862-B6E0-8FFDAF39115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hevron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B69D-8D95-4CB4-9DF6-55E9BCCA9CB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6ECF-8E9F-47BE-9E07-0E0A2635B09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9E85-FE1D-4A57-96A2-30832CF4296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C00F0-1A0E-457E-9B9C-04CFD671C21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e9f4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0C59-B141-48F2-AD0A-7170B2AF2BC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f3f3f"/>
            </a:gs>
            <a:gs pos="100000">
              <a:srgbClr val="dfeff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Right Triangle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8" name="Right Triangle 15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Straight Connector 16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1" name="Chevron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Chevron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173C-D0F4-4C4A-B240-EE03D7B05EF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689040" y="3889440"/>
            <a:ext cx="8076960" cy="157320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97656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5"/>
          <p:cNvSpPr/>
          <p:nvPr/>
        </p:nvSpPr>
        <p:spPr>
          <a:xfrm>
            <a:off x="2133720" y="2755800"/>
            <a:ext cx="4876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Arial"/>
                <a:cs typeface="2  Titr"/>
              </a:rPr>
              <a:t>عنوان مقال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3352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در صفحات بعد نيازی به لوگو، آرم دانشگاه و عنوان همايش نمي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زمان ارائه پاورپوينت حداکثر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0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دقيقه است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سعی شود تعداد اسلايدها بيش از 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15</a:t>
            </a: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ea typeface="2  Nazanin"/>
              </a:rPr>
              <a:t> اسلايد نباش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Lucida Sans Unicode"/>
                <a:cs typeface="2  Nazanin"/>
              </a:rPr>
              <a:t>هر کدام از نويسندگان مقاله مجاز به ارائه مقاله می باشند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 rtl="1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20:02:19Z</dcterms:created>
  <dc:creator>sam system</dc:creator>
  <dc:description/>
  <dc:language>en-US</dc:language>
  <cp:lastModifiedBy>User</cp:lastModifiedBy>
  <dcterms:modified xsi:type="dcterms:W3CDTF">2015-12-15T10:14:55Z</dcterms:modified>
  <cp:revision>32</cp:revision>
  <dc:subject/>
  <dc:title>علي شير افروس، استاديار گروه مهندسي آب، دانشگاه آزاد اسلامي واحد دزفول</dc:title>
</cp:coreProperties>
</file>