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wmf" ContentType="image/x-wmf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21243925" cy="30243463"/>
  <p:notesSz cx="7102475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102800" cy="102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2204640" y="766800"/>
            <a:ext cx="2693880" cy="383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360" rIns="9936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971856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402228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F6DA-AF0D-4D26-8070-200B6726EA6C}" type="slidenum">
              <a:rPr b="0" lang="ar-S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1856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56E2-94EF-4AC3-B20B-6CE3709760AC}" type="slidenum">
              <a:rPr b="0" lang="ar-S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205000" y="766800"/>
            <a:ext cx="2693880" cy="3836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AB3A-CDE6-4423-BF19-69DAF8AD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37E-596D-4A81-BDBA-9F3EBDE9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5C0B-ACE3-4B60-B6F2-B4479374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EB4-32B5-422F-A269-9C8D48E70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E6E7-9069-415C-9ABF-4556D7FC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1FF7-5028-4A3C-936D-3AE6D7A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BF6F-E98F-4AB4-B270-6FE57E03A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CC27E-E3D2-40DF-A118-7E4D78AB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9B07-926B-4142-B69B-2ABB86D9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2A06-7F85-49D8-98B7-205B2199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A37F-4E53-4136-826F-294B37E0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0E12-D8EA-4307-B8D2-1311EEE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8F10-0005-4C03-BB96-B6EC8336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28D9-E2C5-43A0-95DA-225FB12D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B6B55-3A57-4797-99AC-C88FE89C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77FC-417D-4882-AF16-3590E93B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BB91-E068-434B-B6DF-E0D3D37A7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D8A7-8EA8-4B81-B1B1-DCB2D138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1BBDD-4A3A-4D4C-94C7-DAFE3EAD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01228-E99C-44C2-81D1-CC477847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B215-5CDF-4389-9E63-3B0A18BE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95D8D-80E1-40DA-9744-3A00C222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ADC9-AF22-4654-96F8-870947F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699E8-96F8-45BF-80DC-26006933D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63E9-47ED-4569-BBE4-11C81683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2759C-4A69-42A0-A677-F6155583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21E6F-14DC-46A5-8BD8-621C722B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BDACB-813A-47C9-B2B4-FB5D8A4C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65564-75CA-45F2-B97E-1E9F94F5C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467FC-416F-42BC-B2DB-A910BB62D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C81CF-13D7-40CA-B613-4EB0B2EB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04A23-8920-40EF-A25C-1B2F3C2A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B3A2-40F6-4D7E-A4EF-B8E4EE85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59D-E8FE-4917-AF72-7DA9D4A5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31E6-E00A-451E-A403-8BCB717E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C3C8-3478-4377-9FB0-E13D3C43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D0882-B5F0-41A4-BCBD-5993D4E4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05827-B197-49F3-A9C6-1F5E65A1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B1645-F6CE-4715-ABF5-7EF44B9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8679E-D6B5-423E-8806-E8A9C8D7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CB6B3-32FA-4AA7-9A89-8F9456B7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E49BB-73FC-4E8E-BFFF-6BA0E687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5258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989600" y="853560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0620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75258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13989600" y="18644760"/>
            <a:ext cx="615564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204C3-9F35-4A77-8100-1A3921CBC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B15D-13C1-4324-9DA3-B816527D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2000" y="3104640"/>
            <a:ext cx="19118160" cy="23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0931-0AF2-4E7C-A465-C0434FF0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6A5-94E3-4C59-A175-3146B9DB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58320" y="1864476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EBD-0230-41D3-9D04-BE30ABE8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200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858320" y="8535600"/>
            <a:ext cx="932940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2000" y="18644760"/>
            <a:ext cx="19118160" cy="923184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92E-12B1-45D5-9A91-DB83732B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66C84-55B4-49B3-9CEC-BAB62E820BAB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3D99-A2D9-4B7D-9440-A14EBDD79C1C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22320" y="-31680"/>
            <a:ext cx="21286800" cy="4592520"/>
          </a:xfrm>
          <a:custGeom>
            <a:avLst/>
            <a:gdLst>
              <a:gd name="textAreaLeft" fmla="*/ 0 w 21286800"/>
              <a:gd name="textAreaRight" fmla="*/ 21287160 w 21286800"/>
              <a:gd name="textAreaTop" fmla="*/ 0 h 4592520"/>
              <a:gd name="textAreaBottom" fmla="*/ 4592880 h 459252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10179000" y="-31680"/>
            <a:ext cx="11063160" cy="2814480"/>
          </a:xfrm>
          <a:custGeom>
            <a:avLst/>
            <a:gdLst>
              <a:gd name="textAreaLeft" fmla="*/ 0 w 11063160"/>
              <a:gd name="textAreaRight" fmla="*/ 11063520 w 11063160"/>
              <a:gd name="textAreaTop" fmla="*/ 0 h 2814480"/>
              <a:gd name="textAreaBottom" fmla="*/ 2814840 h 28144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44280" y="892080"/>
            <a:ext cx="21327840" cy="2863800"/>
            <a:chOff x="-44280" y="892080"/>
            <a:chExt cx="21327840" cy="28638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37800" y="892080"/>
              <a:ext cx="21266640" cy="2863800"/>
              <a:chOff x="-37800" y="892080"/>
              <a:chExt cx="21266640" cy="28638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1000" y="892080"/>
                <a:ext cx="21147840" cy="286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37440" y="169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44280" y="1145160"/>
              <a:ext cx="21327840" cy="2381040"/>
              <a:chOff x="-44280" y="1145160"/>
              <a:chExt cx="21327840" cy="23810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45000" y="1145160"/>
                <a:ext cx="21238560" cy="238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43920" y="1949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18410400" y="28030320"/>
            <a:ext cx="176976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1703-BB03-4BC1-84E0-D67CCD68D0D5}" type="slidenum">
              <a:rPr b="0" lang="en-US" sz="39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7354800" y="4885200"/>
            <a:ext cx="12214440" cy="18146880"/>
          </a:xfrm>
          <a:custGeom>
            <a:avLst/>
            <a:gdLst/>
            <a:ahLst/>
            <a:rect l="l" t="t" r="r" b="b"/>
            <a:pathLst>
              <a:path w="12214225" h="18146713">
                <a:moveTo>
                  <a:pt x="0" y="0"/>
                </a:moveTo>
                <a:lnTo>
                  <a:pt x="11768894" y="0"/>
                </a:lnTo>
                <a:lnTo>
                  <a:pt x="12214225" y="445331"/>
                </a:lnTo>
                <a:lnTo>
                  <a:pt x="12214225" y="18146713"/>
                </a:lnTo>
                <a:lnTo>
                  <a:pt x="0" y="181467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ctr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18594360" y="23635080"/>
            <a:ext cx="360360" cy="68580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94120" rIns="29412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21960" y="25650720"/>
            <a:ext cx="21286800" cy="4592880"/>
          </a:xfrm>
          <a:custGeom>
            <a:avLst/>
            <a:gdLst>
              <a:gd name="textAreaLeft" fmla="*/ 0 w 21286800"/>
              <a:gd name="textAreaRight" fmla="*/ 21287160 w 21286800"/>
              <a:gd name="textAreaTop" fmla="*/ 360 h 4592880"/>
              <a:gd name="textAreaBottom" fmla="*/ 4593600 h 45928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10179000" y="27428040"/>
            <a:ext cx="11063160" cy="2814840"/>
          </a:xfrm>
          <a:custGeom>
            <a:avLst/>
            <a:gdLst>
              <a:gd name="textAreaLeft" fmla="*/ 0 w 11063160"/>
              <a:gd name="textAreaRight" fmla="*/ 11063520 w 11063160"/>
              <a:gd name="textAreaTop" fmla="*/ -360 h 2814840"/>
              <a:gd name="textAreaBottom" fmla="*/ 2814840 h 281484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120" rIns="294120" tIns="146880" bIns="14688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2000" y="3104640"/>
            <a:ext cx="1911816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14724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1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161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062000" y="8535600"/>
            <a:ext cx="19118160" cy="19354680"/>
          </a:xfrm>
          <a:prstGeom prst="rect">
            <a:avLst/>
          </a:prstGeom>
          <a:noFill/>
          <a:ln w="0">
            <a:noFill/>
          </a:ln>
        </p:spPr>
        <p:txBody>
          <a:bodyPr lIns="294120" rIns="294120" tIns="147240" bIns="147240" anchor="t">
            <a:normAutofit/>
          </a:bodyPr>
          <a:p>
            <a:pPr marL="880920" indent="-880920">
              <a:spcBef>
                <a:spcPts val="21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1" marL="2058840" indent="-793440">
              <a:spcBef>
                <a:spcPts val="21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2" marL="2941560" indent="-793800">
              <a:spcBef>
                <a:spcPts val="21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3" marL="3824280" indent="-676440">
              <a:spcBef>
                <a:spcPts val="2100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4" marL="4707000" indent="-676440">
              <a:spcBef>
                <a:spcPts val="2100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5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  <a:p>
            <a:pPr lvl="6" marL="4707000" indent="-676440">
              <a:spcBef>
                <a:spcPts val="2100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1061640" y="28030320"/>
            <a:ext cx="495612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6195960" y="28030320"/>
            <a:ext cx="778824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18763920" y="28030320"/>
            <a:ext cx="1415880" cy="161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9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57BE-240F-4C54-808B-0546C552B76D}" type="slidenum">
              <a:rPr b="0" lang="en-US" sz="39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34"/>
          <p:cNvGrpSpPr/>
          <p:nvPr/>
        </p:nvGrpSpPr>
        <p:grpSpPr>
          <a:xfrm>
            <a:off x="264960" y="4680000"/>
            <a:ext cx="20669400" cy="25119000"/>
            <a:chOff x="264960" y="4680000"/>
            <a:chExt cx="20669400" cy="25119000"/>
          </a:xfrm>
        </p:grpSpPr>
        <p:grpSp>
          <p:nvGrpSpPr>
            <p:cNvPr id="203" name="Group 25"/>
            <p:cNvGrpSpPr/>
            <p:nvPr/>
          </p:nvGrpSpPr>
          <p:grpSpPr>
            <a:xfrm>
              <a:off x="264960" y="8768880"/>
              <a:ext cx="20669400" cy="21030120"/>
              <a:chOff x="264960" y="8768880"/>
              <a:chExt cx="20669400" cy="21030120"/>
            </a:xfrm>
          </p:grpSpPr>
          <p:sp>
            <p:nvSpPr>
              <p:cNvPr id="204" name="AutoShape 50"/>
              <p:cNvSpPr/>
              <p:nvPr/>
            </p:nvSpPr>
            <p:spPr>
              <a:xfrm>
                <a:off x="264960" y="8794440"/>
                <a:ext cx="9995040" cy="210013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01320"/>
                  <a:gd name="textAreaBottom" fmla="*/ 20796480 h 21001320"/>
                </a:gdLst>
                <a:ahLst/>
                <a:rect l="textAreaLeft" t="textAreaTop" r="textAreaRight" b="textAreaBottom"/>
                <a:pathLst>
                  <a:path w="21600" h="45385">
                    <a:moveTo>
                      <a:pt x="1512" y="0"/>
                    </a:moveTo>
                    <a:arcTo wR="1512" hR="1512" stAng="16200000" swAng="-5400000"/>
                    <a:lnTo>
                      <a:pt x="0" y="43873"/>
                    </a:lnTo>
                    <a:arcTo wR="1512" hR="1512" stAng="10800000" swAng="-5400000"/>
                    <a:lnTo>
                      <a:pt x="20088" y="45385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4"/>
              <p:cNvSpPr/>
              <p:nvPr/>
            </p:nvSpPr>
            <p:spPr>
              <a:xfrm>
                <a:off x="10939320" y="8768880"/>
                <a:ext cx="9995040" cy="21030120"/>
              </a:xfrm>
              <a:custGeom>
                <a:avLst/>
                <a:gdLst>
                  <a:gd name="textAreaLeft" fmla="*/ 204840 w 9995040"/>
                  <a:gd name="textAreaRight" fmla="*/ 9790200 w 9995040"/>
                  <a:gd name="textAreaTop" fmla="*/ 204840 h 21030120"/>
                  <a:gd name="textAreaBottom" fmla="*/ 20825280 h 21030120"/>
                </a:gdLst>
                <a:ahLst/>
                <a:rect l="textAreaLeft" t="textAreaTop" r="textAreaRight" b="textAreaBottom"/>
                <a:pathLst>
                  <a:path w="21600" h="45447">
                    <a:moveTo>
                      <a:pt x="1512" y="0"/>
                    </a:moveTo>
                    <a:arcTo wR="1512" hR="1512" stAng="16200000" swAng="-5400000"/>
                    <a:lnTo>
                      <a:pt x="0" y="43935"/>
                    </a:lnTo>
                    <a:arcTo wR="1512" hR="1512" stAng="10800000" swAng="-5400000"/>
                    <a:lnTo>
                      <a:pt x="20088" y="45447"/>
                    </a:lnTo>
                    <a:arcTo wR="1512" hR="1512" stAng="5400000" swAng="-5400000"/>
                    <a:lnTo>
                      <a:pt x="21600" y="1512"/>
                    </a:lnTo>
                    <a:arcTo wR="1512" hR="1512" stAng="0" swAng="-5400000"/>
                    <a:close/>
                  </a:path>
                </a:pathLst>
              </a:custGeom>
              <a:solidFill>
                <a:srgbClr val="ffffff"/>
              </a:solidFill>
              <a:ln w="25560">
                <a:solidFill>
                  <a:srgbClr val="0f6f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Rounded Rectangle 12"/>
            <p:cNvSpPr/>
            <p:nvPr/>
          </p:nvSpPr>
          <p:spPr>
            <a:xfrm>
              <a:off x="3043080" y="4680000"/>
              <a:ext cx="15454440" cy="3873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0f6f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(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عنوان مقاله حداکثر در 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12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 کلمه با قلم ب.تیتر </a:t>
              </a:r>
              <a:r>
                <a:rPr b="0" lang="en-US" sz="5000" spc="-1" strike="noStrike">
                  <a:solidFill>
                    <a:srgbClr val="000000"/>
                  </a:solidFill>
                  <a:latin typeface="Constantia"/>
                  <a:ea typeface="B Titr"/>
                </a:rPr>
                <a:t>pt. 60</a:t>
              </a:r>
              <a:r>
                <a:rPr b="0" lang="fa-IR" sz="5000" spc="-1" strike="noStrike">
                  <a:solidFill>
                    <a:srgbClr val="000000"/>
                  </a:solidFill>
                  <a:latin typeface="Constantia"/>
                  <a:cs typeface="B Titr"/>
                </a:rPr>
                <a:t>پررنگ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---- يک سطر فاصله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-----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ه اول </a:t>
              </a:r>
              <a:r>
                <a:rPr b="0" lang="fa-IR" sz="2700" spc="-1" strike="noStrike" baseline="30000">
                  <a:solidFill>
                    <a:srgbClr val="000000"/>
                  </a:solidFill>
                  <a:latin typeface="Constantia"/>
                  <a:ea typeface="B Nazanin"/>
                </a:rPr>
                <a:t>*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نويسنده دوم، ... در يك يا دو سطر. از ذكر عناويني نظير مهندس و يا دكتر و ... در ابتداي اسامي خودداري شود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نام و نام خانوادگي نويسندگان به صورت کامل ذکر شود. (همراه با پسوند) (ب.نازنين 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32</a:t>
              </a:r>
              <a:r>
                <a:rPr b="0" lang="en-US" sz="27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7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پررنگ) 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10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*- نويسنده مسئول: درجه علمي و رشته تخصصي (يا سمت كاري)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2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- درجه علمي و رشته تخصصي (يا سمت كاري)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،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راست چين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اول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آدرس كوتاه نويسنده دوم (ب.نازنين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pt. 28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 </a:t>
              </a:r>
              <a:r>
                <a:rPr b="0" lang="fa-IR" sz="2400" spc="-1" strike="noStrike">
                  <a:solidFill>
                    <a:srgbClr val="000000"/>
                  </a:solidFill>
                  <a:latin typeface="Constantia"/>
                  <a:cs typeface="B Nazanin"/>
                </a:rPr>
                <a:t>ايتاليك) ، آدرس پست الكترونيك 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Times New Roman 27 pt. Italic</a:t>
              </a:r>
              <a:r>
                <a:rPr b="0" lang="en-US" sz="2400" spc="-1" strike="noStrike">
                  <a:solidFill>
                    <a:srgbClr val="000000"/>
                  </a:solidFill>
                  <a:latin typeface="Constantia"/>
                  <a:ea typeface="B Nazani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2941560"/>
                  <a:tab algn="l" pos="5883120"/>
                  <a:tab algn="l" pos="88250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2"/>
          <p:cNvSpPr/>
          <p:nvPr/>
        </p:nvSpPr>
        <p:spPr>
          <a:xfrm>
            <a:off x="11241000" y="10191600"/>
            <a:ext cx="9360000" cy="132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ه منظور يكسان سازي مجموع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مقالات اين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لازم است كه همة مقالا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 طرحي يكسان و كاملاً هماهنگ تهيه و تايپ شوند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(البته رنگ بندی پوستر به سلیقه نگارنده مقاله بستگی پیدا می‏کند).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ين راهنما به نويسندگان مقالات كمك مي‌كند تا مقالة خود را با طرح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برای ارائه به صور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هيه نمايند. توجه شود كه فرمت ظاهري اين راهنما و نگارش آن منطبق بر دستورالعمل مورد قبول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همایش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است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اندازه پوستر باید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7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100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سانتیمتر باشد. ضروری است عنوان همایش و لوگوهای بالای پوستر حفظ شود و تغییر نکند. سایر زیباسازی ها در متن به شرط رعایت ساختار پیشنهادی زیر آزاد است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اي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اخت پوس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، فقط از نرم افزار مايكروسافت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اورپوینت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نسخة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003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به بعد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استفاده كنيد. عنوان همة بخش‌ها با قلم ب.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تیت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و اندازه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B Nazanin"/>
              </a:rPr>
              <a:t>pt.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5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پررنگ و عنوان زيربخش‌ها با قلم ب.نازنين و اندازه 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28</a:t>
            </a:r>
            <a:r>
              <a:rPr b="1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cs typeface="B Nazanin"/>
              </a:rPr>
              <a:t>پررنگ تايپ شود. عنوان هر بخش يا زيربخش،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يك خط خالي فاصله از انتهاي متن بخش قبل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  <a:ea typeface="B Nazanin"/>
              </a:rPr>
              <a:t> تايپ و شماره‌گذاري شود. 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خط اول همة پاراگراف‌ها بايد داراي تورفتگي به اندازة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cm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1</a:t>
            </a:r>
            <a:r>
              <a:rPr b="1" lang="ar-SA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شد.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برای کلیه متون از حالت پاراگراف از راست (متن از راست به چپ)- حالت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Justify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- و براي تدوين بخشهای لاتين نيز بايستي کليه موارد مندرج در اين دستورالعمل رعايت شود و برای نگارش بخش های لاتین بايد از قلم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Times New Roma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B Nazanin"/>
              </a:rPr>
              <a:t> </a:t>
            </a:r>
            <a:r>
              <a:rPr b="1" lang="fa-IR" sz="24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با اندازه فونت يکي کمتر از حالت فارسي </a:t>
            </a:r>
            <a:r>
              <a:rPr b="1" lang="fa-IR" sz="2000" spc="-1" strike="noStrike" u="sng">
                <a:solidFill>
                  <a:srgbClr val="000000"/>
                </a:solidFill>
                <a:uFillTx/>
                <a:latin typeface="Arial"/>
                <a:cs typeface="B Nazanin"/>
              </a:rPr>
              <a:t>معادل آن استفاده شود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833400" y="15791040"/>
            <a:ext cx="881532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2812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نتایج و تحلیل</a:t>
            </a:r>
            <a:r>
              <a:rPr b="1" lang="fa-IR" sz="4500" spc="-1" strike="noStrike">
                <a:solidFill>
                  <a:srgbClr val="000000"/>
                </a:solidFill>
                <a:latin typeface="Arial"/>
                <a:ea typeface="B Titr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وجود بخش جمع‌بندي و نتيجه‌گيري پس از متن اصلي مقاله الزامي است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ea typeface="Majalla U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1258920" y="23095080"/>
            <a:ext cx="8815320" cy="56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spAutoFit/>
          </a:bodyPr>
          <a:p>
            <a:pPr algn="ctr" rtl="1">
              <a:spcBef>
                <a:spcPts val="3626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نابع اصلی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برخی از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مراجع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اصلی 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ر انتهاي مقاله به همان ترتيبي كه در متن </a:t>
            </a: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Nazanin"/>
              </a:rPr>
              <a:t>پوستر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  <a:cs typeface="B Nazanin"/>
              </a:rPr>
              <a:t>به آنها ارجاع مي‌شود، مي‌آين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63"/>
              </a:spcBef>
              <a:tabLst>
                <a:tab algn="l" pos="0"/>
                <a:tab algn="l" pos="2941560"/>
                <a:tab algn="l" pos="5883120"/>
                <a:tab algn="l" pos="88250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2"/>
          <p:cNvSpPr/>
          <p:nvPr/>
        </p:nvSpPr>
        <p:spPr>
          <a:xfrm>
            <a:off x="12912840" y="8985240"/>
            <a:ext cx="5821200" cy="15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چکیده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(حداکثر 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120</a:t>
            </a:r>
            <a:r>
              <a:rPr b="1" lang="fa-IR" sz="4000" spc="-1" strike="noStrike">
                <a:solidFill>
                  <a:srgbClr val="000000"/>
                </a:solidFill>
                <a:latin typeface="Arial"/>
                <a:ea typeface="B Titr"/>
              </a:rPr>
              <a:t> کلمه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3"/>
          <p:cNvSpPr/>
          <p:nvPr/>
        </p:nvSpPr>
        <p:spPr>
          <a:xfrm>
            <a:off x="833400" y="9085320"/>
            <a:ext cx="826920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4800" spc="-1" strike="noStrike">
                <a:solidFill>
                  <a:srgbClr val="000000"/>
                </a:solidFill>
                <a:latin typeface="Arial"/>
                <a:cs typeface="B Titr"/>
              </a:rPr>
              <a:t>ادامه مبانی نظری و متن اصلی مقال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2706200" y="19810440"/>
            <a:ext cx="6429600" cy="181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400" rIns="50400" tIns="25200" bIns="25200" anchor="t">
            <a:spAutoFit/>
          </a:bodyPr>
          <a:p>
            <a:pPr algn="ctr">
              <a:spcBef>
                <a:spcPts val="3626"/>
              </a:spcBef>
              <a:tabLst>
                <a:tab algn="l" pos="0"/>
                <a:tab algn="l" pos="2421000"/>
                <a:tab algn="l" pos="4842000"/>
                <a:tab algn="l" pos="7262640"/>
                <a:tab algn="l" pos="968364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سوال و هدف تحقیق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0"/>
          <p:cNvSpPr/>
          <p:nvPr/>
        </p:nvSpPr>
        <p:spPr>
          <a:xfrm>
            <a:off x="11633040" y="23095080"/>
            <a:ext cx="8575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800" spc="-1" strike="noStrike">
                <a:solidFill>
                  <a:srgbClr val="000000"/>
                </a:solidFill>
                <a:latin typeface="Arial"/>
                <a:cs typeface="B Titr"/>
              </a:rPr>
              <a:t>مبانی نظری و متن اصلی مقاله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" descr=""/>
          <p:cNvPicPr/>
          <p:nvPr/>
        </p:nvPicPr>
        <p:blipFill>
          <a:blip r:embed="rId1"/>
          <a:stretch/>
        </p:blipFill>
        <p:spPr>
          <a:xfrm>
            <a:off x="0" y="-108000"/>
            <a:ext cx="2124216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Content Placeholder 3" descr=""/>
          <p:cNvPicPr/>
          <p:nvPr/>
        </p:nvPicPr>
        <p:blipFill>
          <a:blip r:embed="rId1"/>
          <a:stretch/>
        </p:blipFill>
        <p:spPr>
          <a:xfrm>
            <a:off x="4411800" y="11380680"/>
            <a:ext cx="13817520" cy="110286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2"/>
          <a:stretch/>
        </p:blipFill>
        <p:spPr>
          <a:xfrm>
            <a:off x="4464000" y="8569440"/>
            <a:ext cx="13878000" cy="12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00:20:37Z</dcterms:created>
  <dc:creator>Ethan Shulda</dc:creator>
  <dc:description>©MegaPrint Inc. 2009</dc:description>
  <dc:language>en-US</dc:language>
  <cp:lastModifiedBy>User</cp:lastModifiedBy>
  <dcterms:modified xsi:type="dcterms:W3CDTF">2015-12-15T10:50:16Z</dcterms:modified>
  <cp:revision>94</cp:revision>
  <dc:subject/>
  <dc:title>70x100 cm vertical poster template</dc:title>
</cp:coreProperties>
</file>